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AB7A-9232-46DD-81B8-8AB8159D6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2477-2B16-4DE0-8072-F9DEA573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DBCC-5693-4EDC-B4A6-1CF326670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82E0-C266-4191-94F8-47F5FEFA7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0AFB-D5A7-4F9D-8AB7-656D5BF9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779A-74DD-4DCD-A52D-65A1C655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B6B8-6630-4EC6-8943-52063B15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C0F4-F735-47C4-8432-AF87D3AB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BB23-D694-46F8-B4B2-65151CAE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AA0F-5D40-4BA8-87C9-0C81A2A7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0C1E-0D79-4191-BBE6-0BBE541F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A915-C81A-4AC4-A732-E3D6627C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99ff"/>
            </a:gs>
            <a:gs pos="100000">
              <a:srgbClr val="99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F593-71A9-47A6-B9DF-A31687276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anville-va.gov/upload/images/EOC/Sacret%2520Heart%25203.jpg&amp;imgrefurl=http://www.danville-va.gov/page.asp%3Fmenuid%3D2820%26sub1menuid%3D2830%26sub2menuid%3D5064%26sub3menuid%3D8843&amp;usg=__ij-FPdLx3B2tVUgl3zzspZupDUw=&amp;h=336&amp;w=448&amp;sz=44&amp;hl=en&amp;start=86&amp;tbnid=GUTtBBmKUKq8YM:&amp;tbnh=95&amp;tbnw=127&amp;prev=/images%3Fq%3Ddisaster%2B%2B%2Bplan%26start%3D80%26gbv%3D2%26ndsp%3D20%26hl%3Den%26safe%3Dactive%26sa%3DN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99ff"/>
            </a:gs>
            <a:gs pos="100000">
              <a:srgbClr val="99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odoni MT Black"/>
              </a:rPr>
              <a:t>Fierce Floo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sto MT"/>
              </a:rPr>
              <a:t>By: Victoria, Alana, Dashaun, Jasmin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99ff"/>
            </a:gs>
            <a:gs pos="100000">
              <a:srgbClr val="99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aster 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271520"/>
            <a:ext cx="746784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99ff"/>
            </a:gs>
            <a:gs pos="100000">
              <a:srgbClr val="99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 they  have  to do  to  b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f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 are  going  to  have  to   go   ou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 the  hall  to  be  safe  and   get  dow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 there  knees  and  cover  there   h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99ff"/>
            </a:gs>
            <a:gs pos="100000">
              <a:srgbClr val="99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al Disaster  Survival K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aid kit   can foods  water  pillow  and pe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99ff"/>
            </a:gs>
            <a:gs pos="100000">
              <a:srgbClr val="99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britain flash floods"/>
          <p:cNvPicPr/>
          <p:nvPr/>
        </p:nvPicPr>
        <p:blipFill>
          <a:blip r:embed="rId1"/>
          <a:stretch/>
        </p:blipFill>
        <p:spPr>
          <a:xfrm>
            <a:off x="1219320" y="380880"/>
            <a:ext cx="6553080" cy="59151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99ff"/>
            </a:gs>
            <a:gs pos="100000">
              <a:srgbClr val="99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 are  floods form?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covers 70% of the Earth’s surface, such as lakes, oceans, seas, rivers and much mo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ods are formed w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Big waves are rolled on normally dr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It rains more than the land can hand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Floods can happen after a hurric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99ff"/>
            </a:gs>
            <a:gs pos="100000">
              <a:srgbClr val="99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of a Flood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Floods can make people drown and 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Floods can destroy a lot of peo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99ff"/>
            </a:gs>
            <a:gs pos="100000">
              <a:srgbClr val="99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 strong  are floo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very strong.  A flood can move a car, house, and sweep us away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676520" y="2871720"/>
            <a:ext cx="609588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99ff"/>
            </a:gs>
            <a:gs pos="100000">
              <a:srgbClr val="99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 do  floods  occu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ods can occur at any time of the year. It all depends on the location, climate, and loc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99ff"/>
            </a:gs>
            <a:gs pos="100000">
              <a:srgbClr val="99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 do  floods mostly occur  i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 United  stat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 occur in Oklaho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99ff"/>
            </a:gs>
            <a:gs pos="100000">
              <a:srgbClr val="99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rm  cha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hase storms and find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99ff"/>
            </a:gs>
            <a:gs pos="100000">
              <a:srgbClr val="99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faidley storm chaser pictur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8:19:49Z</dcterms:created>
  <dc:creator>Neo</dc:creator>
  <dc:description/>
  <dc:language>en-US</dc:language>
  <cp:lastModifiedBy>Shannon Hill</cp:lastModifiedBy>
  <dcterms:modified xsi:type="dcterms:W3CDTF">2008-12-21T05:57:05Z</dcterms:modified>
  <cp:revision>4</cp:revision>
  <dc:subject/>
  <dc:title>Fierce Floods</dc:title>
</cp:coreProperties>
</file>